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FE6-9827-4B88-BFBF-D70C7B78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23E-10B7-4913-9692-91ACE0EE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6FE-B1BB-4C62-8532-C9D89F2D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EC5-14F6-466D-8EE0-8435524E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197-BAFE-4C27-890E-9CECB8E0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318-069A-4F43-BC1A-4BA66DB1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D5A-3E51-4551-89A0-3F62FC35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9A6-6C7B-48FB-9FCB-053349F6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76D-DC55-41FE-91A3-273AA44E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DCA-F6E9-455A-91BC-A10C8283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BEC-079D-4ECF-B89E-6E088540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552-8045-491E-A31E-04AB214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4D0A-753A-44C5-9B14-12FD4D2FA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12920" cy="32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274920" y="54756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075280" y="476280"/>
            <a:ext cx="285840" cy="393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627280" y="1268280"/>
            <a:ext cx="1201680" cy="730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95280" y="119700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500720" y="1268280"/>
            <a:ext cx="1738080" cy="182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451640" y="189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50920" y="2924280"/>
            <a:ext cx="1295280" cy="110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195640" y="2852640"/>
            <a:ext cx="35388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3059280" y="2924280"/>
            <a:ext cx="912600" cy="76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284720" y="3500280"/>
            <a:ext cx="2698560" cy="23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23:01:05Z</dcterms:created>
  <dc:creator>Daniel Michael Meyer</dc:creator>
  <dc:description/>
  <dc:language>en-US</dc:language>
  <cp:lastModifiedBy>Daniel Michael Meyer</cp:lastModifiedBy>
  <dcterms:modified xsi:type="dcterms:W3CDTF">2007-01-04T23:18:08Z</dcterms:modified>
  <cp:revision>2</cp:revision>
  <dc:subject/>
  <dc:title>Folie 1</dc:title>
</cp:coreProperties>
</file>